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362-8B65-45B6-A630-FBFCDAEB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B67-CC7F-4E76-B3F8-1696856E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704-3FC3-43BE-9AB2-B2813CDB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06B-2487-481B-8C20-03BC9146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EAB-D8B9-4437-9C4E-1654F2F2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70C-6236-4D35-ACFC-1B9D6C10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E82-4754-4EE9-AE98-01B8DAA7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88D-FF62-4004-849F-2073DF63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7DA-CC96-4CB2-97A3-44402C2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CAB-38AF-402B-A818-9797567B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626-6310-4F52-A118-BE47A5C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0D8-AE33-48DA-B850-B6EB736A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D576C-FA5B-4F7E-8257-30A7351DD5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82A71-3D8B-4789-AAAA-6DB8942BB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2844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3019320" y="863640"/>
            <a:ext cx="244152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6477120" y="86364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4"/>
          <a:stretch/>
        </p:blipFill>
        <p:spPr>
          <a:xfrm>
            <a:off x="679320" y="41338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3346560" y="3778200"/>
            <a:ext cx="2450880" cy="260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6"/>
          <a:stretch/>
        </p:blipFill>
        <p:spPr>
          <a:xfrm>
            <a:off x="6373800" y="4133880"/>
            <a:ext cx="2192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93840" y="431640"/>
            <a:ext cx="2006640" cy="205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825640" y="958680"/>
            <a:ext cx="285300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5956200" y="958680"/>
            <a:ext cx="3187800" cy="212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393840" y="342900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5"/>
          <a:stretch/>
        </p:blipFill>
        <p:spPr>
          <a:xfrm>
            <a:off x="3297240" y="3581280"/>
            <a:ext cx="2549520" cy="221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6"/>
          <a:stretch/>
        </p:blipFill>
        <p:spPr>
          <a:xfrm>
            <a:off x="6392880" y="4565520"/>
            <a:ext cx="216072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685800" y="520560"/>
            <a:ext cx="1316160" cy="250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317760" y="1144440"/>
            <a:ext cx="2508480" cy="187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3759120" y="3759120"/>
            <a:ext cx="16257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20:21:36Z</dcterms:created>
  <dc:creator>Silvia Ferreira</dc:creator>
  <dc:description/>
  <dc:language>en-US</dc:language>
  <cp:lastModifiedBy>Eduardo da Silva</cp:lastModifiedBy>
  <dcterms:modified xsi:type="dcterms:W3CDTF">2012-09-19T18:09:35Z</dcterms:modified>
  <cp:revision>2</cp:revision>
  <dc:subject/>
  <dc:title>Slide 1</dc:title>
</cp:coreProperties>
</file>